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9365-6AB3-4D11-A124-404095E79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5703-054C-4599-B520-3B5E5530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0F0D0-24B9-4E66-A3FF-C92D5551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B7C72-EC05-4B25-8E8A-6E5329B5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7A43E-BD9A-41A4-BE98-4934A2BE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A2C85-A292-48FA-9070-E4AD5848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B021A-7894-4A0C-9938-9F6FE757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7D90D-5C4E-4174-B4C3-5F7DB365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399F2-BCF0-4815-B65D-BCD28665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04171-84B8-46EC-9B70-EBB48D6E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525B4-455F-4DCA-84DE-7E118C14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C1E70-A68A-4F6E-838B-45159F1B9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4F8B-72A9-4434-845F-82EAF2521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F6D9E-83D3-428D-AF2D-46496B34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D7058-C7A6-4B73-9F52-E0E4A6EC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9245D-1BA1-476E-BFA4-682ED519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74CBC-C36A-4665-90CA-4A32EDF5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A79EDA-C26E-414F-9B38-33624A40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4FFE1C-9C22-4B22-846E-6998A5FA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7DEF6-91C0-4BDC-AFD6-63D7F1AD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095C3-48ED-4CC4-B4CB-0D0A039A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CBF14-2DD0-4986-B0B1-DBDC2826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880AC6-BF28-4216-A6D3-D33BFD98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C797-DBB8-4CB5-82B3-8917ED08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0265F-2B0C-4004-A597-9672EB78B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698D3-BA05-48FE-A533-B638FABD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E39E4-689A-4991-AFDD-0AB54620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53DD9-E8CF-47B5-9231-3921C2FC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0C142-9F0A-4391-A33D-64EDF098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D009C-7764-4F8D-84B1-A4F15384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866D8-5F5F-4FF7-AE87-569E6DF9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FFF04-1D8A-459A-B81A-406CE7F7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1F929-A635-469A-AFAF-C359F607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5EE59-E94F-4DEB-9572-3091BC68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BE0A-7649-402C-954B-75651A97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B6075-7AE9-4BFA-A8FD-0184F017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9D326-CAD7-4E15-A16A-2E2B581E1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9E2E4-DA96-4875-A26C-F89D1627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1BC39-390F-409B-B747-55E582A9A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F5A7D6-D4D5-42C4-B624-4599E907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D9B820-82F8-4B11-B069-67B48A5E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18535-8F8F-4FE4-84CC-49E29602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9D9550-87F0-440D-AD45-3A4DFD01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B935E8-18C3-40D0-ABC0-B362D9E1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312031-BF94-4BEA-81EA-45C4554F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BE08-05FC-48F7-8A83-92D974AE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13BDA4-5AB2-4F44-82D0-95BD002C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E20B5A-EEA2-4185-BADA-454716EE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AE7E3-3C8E-4F4B-8F37-850B5075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3704EA-FDD7-4024-B1C6-BACF09880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EE767-C6F2-4C5F-903E-1E651E34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321D-6284-4A32-AD94-E372A272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F6FB-400C-4367-9506-CF3B8FA7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76F4-FD26-4B62-8A64-4AAA94AE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37CA-6A38-4E69-86CB-77D77A76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6122-510E-413C-A469-4A855E6C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0D2D-D722-4F8B-838C-835E3FF3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4732-0B12-4EB8-97FD-EB057528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740E-5413-40E1-B01A-935A73D6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5CF2-0E2A-41E7-B86A-631CDA28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EAD1-46D8-4005-9339-13348310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3EAE-E6F8-49EC-AAC6-C5DF9D74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D2262-12A2-40D9-8BBB-3528712B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C577B-3E13-46E8-B93E-7108741E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0AB2B-FA03-443B-B3F6-DB25807E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CB68C-C2C8-4522-80C1-C66404F4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89D84-FB54-4214-A65C-E8368FD3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6FBD-A08D-43A5-BEE3-3A064ECF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0C007-0FA4-4742-92A4-90152858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50BB7-792E-4B9C-AF8D-79E015D1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2A436-BCFF-4015-B546-67290484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AA733-B7ED-4043-83B7-3BA1F4E3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BD4EF-17E9-43D7-8C17-97C8D689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1F195-02F1-4D86-8CCD-2009EE0D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4B9D8-5615-47FE-98D8-B61BB5715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5E6C6-62C9-462A-AA17-E0551DA0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7565A-2781-4E0E-A3B9-4757869E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E5C20-24A0-4691-8FFE-4BBDC87B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9323-A694-4954-BC68-B86EDF64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E4A8E-8DE9-44A5-8CC0-3C1E8EC5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2E8A5-4D5A-420E-8B9F-A729C8DF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2CD91-C7C6-43BA-B510-5691CD49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93130-C00D-4FD3-8FC2-8239C496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373A2-4AB7-43DC-B018-F6DC765B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94A39-9547-4C94-9565-BB647BD2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63746-B30E-4335-9B76-A2D33A56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74124-5C2B-40C0-AFEE-8C9B442CF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807A9-5522-42B5-AAD2-8D258FFD9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72CA3-86B4-428E-8D59-F16CCA15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D26E-D8DA-456C-95E0-74D6A4BF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EDFD4-5A7E-4719-92CA-B764CBED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6832C-667E-46B6-9660-D7FEF02B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0F4A2-C4B3-4F7E-A651-ACCD7F4C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124AA-2420-4360-BF4A-60F4C47A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6EE6B-1758-45A5-8C72-BDA4D027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18E07-E1E6-4DDD-B207-C8F03E83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3F8F9-0A93-4164-909E-9E103DEF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C7A5D-A764-4A11-BB50-2BE124C4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3790C-6D9D-4009-A370-CF06330B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999C7-6EA2-4AC1-8E31-856F2AE8C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BADF-039C-40D1-A08B-6845A6BB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209D3-E27A-48B7-8F7D-8F33647AE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003DC-75DB-43C1-AC80-781CF6645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DFFB9-3579-4368-845A-3CF78C3E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66A51-EBFD-4B0F-A41F-9F63A9F9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EE9C3-5550-4AF4-A22A-C4D8F7AB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78748-50E0-4D2B-AA31-2EBC2696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5B106-333E-4C1C-86E2-DDD1A959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FB1FC-59F5-47BA-8014-04C4508E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83C5D-3E62-4D6F-AC50-769C283D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4C021-3DB6-4251-BE03-72587E0A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D674-68D8-4E20-89BB-1B29B78B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4DA04-E76A-46B9-814D-F2210A20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656D7-8DE5-4956-A686-51A975D6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A1027-F348-4DB4-84CA-EF39DFB5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FA893-3CCA-472D-813B-19012646F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15EAD-9CDD-4CA0-BFBC-24E65743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28C5D-FD27-4ED6-848E-43CD9D53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8C076-FD4C-4D09-9311-798D4572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E6A58-4013-41B0-85A5-5C027A4A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DF22B-2C93-4498-9462-9DAE51E3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3C98E-1D46-476E-9BBE-608B046A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E75F-FDF2-484D-926B-E7824631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92F38-E6A7-4ACD-AB70-E93FF6CD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0B1AA-EA60-40FF-B588-4F908F06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C28A1-66CC-4AEA-989D-5C79ADEB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88D80-521E-4CF6-B8B1-A06B155CF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9CB94-AD1B-416F-BD29-CD26BE095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7591A-A2CB-447C-881F-DD02C8E7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6CA65-D249-44CE-A416-C1CCCBE1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74EC5-C461-4B18-A7A1-40DB4F5A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8EDC1-7253-480F-8A0B-9C455E71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6E826-569C-4093-855E-208B2154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663B-EAE6-4E62-931E-46306054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1D6E6-ED38-4D97-B535-81BE873A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1CBBA-8D38-49FC-BE17-285C2ECC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41405-D157-4F59-885E-3AEA8352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B38BF-CE7F-4D3F-B5EA-AE7F13B0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F12CD-3062-417C-A58F-6B094963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677B8-6ADA-4909-8135-E3AD02BE1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0BFCF-5B16-4095-9B8E-FF60978FE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6F715-9176-4CE9-83D6-636175359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45100-A6AD-481D-A5DB-6975B001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66939-C20E-4768-A26F-DAE99215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F14E-2017-49B5-82D3-F8FC760670D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689B-A0EF-429B-9A0D-DBBABEFEAD4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B6D3-43E4-444F-A334-492339FEEEB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C18E-11DC-4073-9F73-3F31E7020A0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2EBE-70BD-40E3-BA2C-A4EB8F8DBB8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9E61-82D4-4919-8444-7D91A9DE6E4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BECF-F98A-4BCF-8AA1-382ADFCEB63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3BF1-FF6A-45B9-BA93-86B757E4F3C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EC20-B573-4193-A57C-2335DB1AD17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199D-9F83-41B6-AB08-A6382E1752B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7DE9-6EE5-4129-83C6-2681C79F2DD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2F56-78A2-433E-965A-7EF40DF70A1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Arial"/>
                <a:ea typeface="Arial"/>
              </a:rPr>
              <a:t>Sastavljanje si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Međudjelovanje i si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4"/>
          <p:cNvSpPr/>
          <p:nvPr/>
        </p:nvSpPr>
        <p:spPr>
          <a:xfrm>
            <a:off x="380880" y="14479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što je sila vektorska veliči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ko je grafički predočujem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Što se događa kad na tijelo istodobno djeluje više si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6" descr=""/>
          <p:cNvPicPr/>
          <p:nvPr/>
        </p:nvPicPr>
        <p:blipFill>
          <a:blip r:embed="rId1"/>
          <a:stretch/>
        </p:blipFill>
        <p:spPr>
          <a:xfrm>
            <a:off x="4800600" y="3276720"/>
            <a:ext cx="2962440" cy="27241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"/>
          <p:cNvPicPr/>
          <p:nvPr/>
        </p:nvPicPr>
        <p:blipFill>
          <a:blip r:embed="rId2"/>
          <a:stretch/>
        </p:blipFill>
        <p:spPr>
          <a:xfrm>
            <a:off x="380880" y="914400"/>
            <a:ext cx="2863800" cy="3808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5" descr="potezanje konopa"/>
          <p:cNvPicPr/>
          <p:nvPr/>
        </p:nvPicPr>
        <p:blipFill>
          <a:blip r:embed="rId3"/>
          <a:stretch/>
        </p:blipFill>
        <p:spPr>
          <a:xfrm>
            <a:off x="914400" y="3344760"/>
            <a:ext cx="33526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61760" y="763560"/>
            <a:ext cx="642924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hr-HR" sz="3200" spc="-1" strike="noStrike">
                <a:solidFill>
                  <a:srgbClr val="17375e"/>
                </a:solidFill>
                <a:latin typeface="Arial"/>
                <a:ea typeface="Arial"/>
              </a:rPr>
              <a:t>Si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0" name="Group 16"/>
          <p:cNvGrpSpPr/>
          <p:nvPr/>
        </p:nvGrpSpPr>
        <p:grpSpPr>
          <a:xfrm>
            <a:off x="1357200" y="1549440"/>
            <a:ext cx="2357640" cy="952560"/>
            <a:chOff x="1357200" y="1549440"/>
            <a:chExt cx="2357640" cy="952560"/>
          </a:xfrm>
        </p:grpSpPr>
        <p:grpSp>
          <p:nvGrpSpPr>
            <p:cNvPr id="511" name="Group 15"/>
            <p:cNvGrpSpPr/>
            <p:nvPr/>
          </p:nvGrpSpPr>
          <p:grpSpPr>
            <a:xfrm>
              <a:off x="1357200" y="2500200"/>
              <a:ext cx="2357640" cy="1800"/>
              <a:chOff x="1357200" y="2500200"/>
              <a:chExt cx="2357640" cy="1800"/>
            </a:xfrm>
          </p:grpSpPr>
          <p:sp>
            <p:nvSpPr>
              <p:cNvPr id="512" name="Straight Connector 4"/>
              <p:cNvSpPr/>
              <p:nvPr/>
            </p:nvSpPr>
            <p:spPr>
              <a:xfrm>
                <a:off x="1357200" y="2500560"/>
                <a:ext cx="2357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13" name="Straight Arrow Connector 6"/>
              <p:cNvCxnSpPr/>
              <p:nvPr/>
            </p:nvCxnSpPr>
            <p:spPr>
              <a:xfrm flipH="1" flipV="1">
                <a:off x="1571400" y="2500200"/>
                <a:ext cx="643320" cy="216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514" name="Straight Arrow Connector 7"/>
              <p:cNvCxnSpPr/>
              <p:nvPr/>
            </p:nvCxnSpPr>
            <p:spPr>
              <a:xfrm flipH="1" flipV="1">
                <a:off x="2714760" y="2500200"/>
                <a:ext cx="643320" cy="216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mc:AlternateContent>
          <mc:Choice xmlns:a14="http://schemas.microsoft.com/office/drawing/2010/main" Requires="a14">
            <p:sp>
              <p:nvSpPr>
                <p:cNvPr id="515" name="Object 4"/>
                <p:cNvSpPr txBox="1"/>
                <p:nvPr/>
              </p:nvSpPr>
              <p:spPr>
                <a:xfrm>
                  <a:off x="1714320" y="1549440"/>
                  <a:ext cx="571320" cy="73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F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6" name="Object 5"/>
                <p:cNvSpPr txBox="1"/>
                <p:nvPr/>
              </p:nvSpPr>
              <p:spPr>
                <a:xfrm>
                  <a:off x="2840040" y="1571400"/>
                  <a:ext cx="606240" cy="73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F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7" name="TextBox 16"/>
          <p:cNvSpPr/>
          <p:nvPr/>
        </p:nvSpPr>
        <p:spPr>
          <a:xfrm>
            <a:off x="785880" y="278604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ile jednakog pravca djelovanja i istog usmjer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Group 17"/>
          <p:cNvGrpSpPr/>
          <p:nvPr/>
        </p:nvGrpSpPr>
        <p:grpSpPr>
          <a:xfrm>
            <a:off x="1285920" y="3500280"/>
            <a:ext cx="2357280" cy="787680"/>
            <a:chOff x="1285920" y="3500280"/>
            <a:chExt cx="2357280" cy="787680"/>
          </a:xfrm>
        </p:grpSpPr>
        <p:grpSp>
          <p:nvGrpSpPr>
            <p:cNvPr id="519" name="Group 24"/>
            <p:cNvGrpSpPr/>
            <p:nvPr/>
          </p:nvGrpSpPr>
          <p:grpSpPr>
            <a:xfrm>
              <a:off x="1285920" y="4286160"/>
              <a:ext cx="2357280" cy="1800"/>
              <a:chOff x="1285920" y="4286160"/>
              <a:chExt cx="2357280" cy="1800"/>
            </a:xfrm>
          </p:grpSpPr>
          <p:sp>
            <p:nvSpPr>
              <p:cNvPr id="520" name="Straight Connector 18"/>
              <p:cNvSpPr/>
              <p:nvPr/>
            </p:nvSpPr>
            <p:spPr>
              <a:xfrm>
                <a:off x="1285920" y="4286520"/>
                <a:ext cx="2357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1" name="Straight Arrow Connector 19"/>
              <p:cNvCxnSpPr/>
              <p:nvPr/>
            </p:nvCxnSpPr>
            <p:spPr>
              <a:xfrm flipH="1" flipV="1">
                <a:off x="1643040" y="4286160"/>
                <a:ext cx="643320" cy="216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522" name="Straight Arrow Connector 20"/>
              <p:cNvCxnSpPr/>
              <p:nvPr/>
            </p:nvCxnSpPr>
            <p:spPr>
              <a:xfrm flipV="1">
                <a:off x="2286000" y="4286160"/>
                <a:ext cx="786240" cy="2160"/>
              </a:xfrm>
              <a:prstGeom prst="straightConnector1">
                <a:avLst/>
              </a:prstGeom>
              <a:ln w="38160">
                <a:solidFill>
                  <a:srgbClr val="c0504d"/>
                </a:solidFill>
                <a:miter/>
                <a:tailEnd len="med" type="arrow" w="med"/>
              </a:ln>
            </p:spPr>
          </p:cxnSp>
        </p:grpSp>
        <mc:AlternateContent>
          <mc:Choice xmlns:a14="http://schemas.microsoft.com/office/drawing/2010/main" Requires="a14">
            <p:sp>
              <p:nvSpPr>
                <p:cNvPr id="523" name="Object 6"/>
                <p:cNvSpPr txBox="1"/>
                <p:nvPr/>
              </p:nvSpPr>
              <p:spPr>
                <a:xfrm>
                  <a:off x="1714320" y="3500280"/>
                  <a:ext cx="571320" cy="73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F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4" name="Object 7"/>
                <p:cNvSpPr txBox="1"/>
                <p:nvPr/>
              </p:nvSpPr>
              <p:spPr>
                <a:xfrm>
                  <a:off x="2428920" y="3500280"/>
                  <a:ext cx="606240" cy="73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F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25" name="TextBox 27"/>
          <p:cNvSpPr/>
          <p:nvPr/>
        </p:nvSpPr>
        <p:spPr>
          <a:xfrm>
            <a:off x="714240" y="471492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ile jednakog pravca djelovanja,a suprotnoga usmjer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Box 4"/>
          <p:cNvSpPr/>
          <p:nvPr/>
        </p:nvSpPr>
        <p:spPr>
          <a:xfrm>
            <a:off x="533520" y="1828800"/>
            <a:ext cx="7958160" cy="1830960"/>
          </a:xfrm>
          <a:prstGeom prst="rect">
            <a:avLst/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kupan rezultat djelovanja više sila na tijelo naziva 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zultan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i označuje se s R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 postupak kojim se ona određuje zove 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stavljanje si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  <a:ea typeface="Arial"/>
              </a:rPr>
              <a:t>Djelovanje dviju sila jednakog usmjere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Box 4"/>
          <p:cNvSpPr/>
          <p:nvPr/>
        </p:nvSpPr>
        <p:spPr>
          <a:xfrm>
            <a:off x="228600" y="441972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znos rezultante dviju sila ist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e orjentaci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 pravca djelovanja jednak je zbroju iznosa tih si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rjentaci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zultante jednak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je usmjerenju tih dviju si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7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2971800" cy="20606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4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380988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  <a:ea typeface="Arial"/>
              </a:rPr>
              <a:t>Djelovanje dviju sila suprotnih usmjere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TextBox 4"/>
          <p:cNvSpPr/>
          <p:nvPr/>
        </p:nvSpPr>
        <p:spPr>
          <a:xfrm>
            <a:off x="457200" y="441972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znos rezultante dviju sila suprotn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e orjentaci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jednak je razlici iznosa tih sila.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rijentacij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zultante jednak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rjentacij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eće s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6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733920" cy="16048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8" descr=""/>
          <p:cNvPicPr/>
          <p:nvPr/>
        </p:nvPicPr>
        <p:blipFill>
          <a:blip r:embed="rId2"/>
          <a:srcRect l="0" t="5217" r="0" b="0"/>
          <a:stretch/>
        </p:blipFill>
        <p:spPr>
          <a:xfrm>
            <a:off x="3429000" y="2895480"/>
            <a:ext cx="555300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7375e"/>
                </a:solidFill>
                <a:latin typeface="Arial"/>
                <a:ea typeface="Arial"/>
              </a:rPr>
              <a:t>Ravnoteža sila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Box 4"/>
          <p:cNvSpPr/>
          <p:nvPr/>
        </p:nvSpPr>
        <p:spPr>
          <a:xfrm>
            <a:off x="457200" y="441972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ko su dvije sile jednakog iznosa, a suprotnih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rjentaci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one se međusobno poništavaju. Tada kažemo da 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le u ravnotež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7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4262400" cy="26668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3209760" cy="81936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Box 3"/>
          <p:cNvSpPr/>
          <p:nvPr/>
        </p:nvSpPr>
        <p:spPr>
          <a:xfrm>
            <a:off x="-349560" y="1216080"/>
            <a:ext cx="90291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ako se zbrajaju dvije sile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jednake orjentaci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smje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Kako se određuje razultanta kada na tijelo djeluju dvije s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suprotnih orijentacija, a istoga smjera? Kojeg je smjera i orjient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ta rezultantna s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gu li na tijelo djelovati dvije sile, a da tijelo ipak miruj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Na  tijelo djeluju dvije si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 =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N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 =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jednakog smjera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rijentacije. Odredi njihovu rezultantu računski i grafički. Uzmi 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jedan centimetar na slici odgovara iznosu sile od 1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va dječaka natežu uže suprotno usmjerenim silam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 = 120 N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 = 95 N.  Kolika je rezultanta tih sila?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Koju orjentaciju i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rezultan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 Prikaži grafičk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Slika 1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273528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40:26Z</dcterms:created>
  <dc:creator>Slavko</dc:creator>
  <dc:description/>
  <dc:language>en-US</dc:language>
  <cp:lastModifiedBy>Tomislav Dumančić</cp:lastModifiedBy>
  <dcterms:modified xsi:type="dcterms:W3CDTF">2019-09-17T08:54:12Z</dcterms:modified>
  <cp:revision>42</cp:revision>
  <dc:subject/>
  <dc:title>Slide 1</dc:title>
</cp:coreProperties>
</file>